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54D-748F-4BBF-885E-0BD1C81E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BD0-9DEC-4B85-B4EF-2E04306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5FE-D9A3-4443-8081-32C76257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F6E-8218-41D7-BE40-9B7042C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A3D-D7B8-4055-9E9D-4812FCA4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1B2-EA59-4F25-85EF-B9C71E9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FAEF-C22E-4A80-95CA-643C8461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504-3308-48DC-A50B-626A582E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0F3-9A60-420C-B7D5-4FB60F94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CAD-D777-4AF6-A3EC-3CBDE274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067-EF09-4CD4-9967-97C2371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2DC-B15B-4F2C-954D-952C981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58C-8FAB-4ED4-9B57-C36607C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4FAE-8A68-4A9C-9A10-975E7F4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2C35-36E0-4254-830F-71CF246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1B6-6301-4654-969C-1D53A446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6F6-9004-4319-A97F-49B4660A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479-CE7E-4137-B944-086AAB7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4FC-C716-4246-B152-A63FDC6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7C6-66D3-4E36-8CCB-0E454C9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090-B05D-4439-AD12-F0F390B0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21D-07A0-4879-A8C8-2D01F91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A76-59A2-43BC-94E4-4D596B6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D14-0F69-4C4A-B1DC-D68B3B3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DAF1-4865-4E2D-B696-1F457F4AC9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DE1-40D7-4740-B004-E039BF1BF9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7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YMETRIA W UKŁADZIE WSPÓŁRZĘD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OSI 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osiowej względem osi O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pozostaje bez zmian natomiast współrzędna y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62000" y="1133640"/>
          <a:ext cx="5419800" cy="40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133640"/>
                    <a:ext cx="541980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OSI 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osiowej względem osi OY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natomiast współrzędna y pozostaje bez zmia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79560" y="1089000"/>
          <a:ext cx="579744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089000"/>
                    <a:ext cx="579744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POCZĄTKU UKŁADU WSPÓŁRZĘD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względem punktu (0,0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oraz współrzędna y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14560" y="1179360"/>
          <a:ext cx="561816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1179360"/>
                    <a:ext cx="561816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06640" y="1447920"/>
            <a:ext cx="706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e są punkty: A(3,-2), B(-1,0) i C(-4,-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najdź współrzędne punktów A’, B’ i C’ w symetr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) Względem osi O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) Względem osi O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) Względem punktu (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ykonaj pomocnicze rysun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0:12:30Z</dcterms:modified>
  <cp:revision>127</cp:revision>
  <dc:subject/>
  <dc:title>Slajd 1</dc:title>
</cp:coreProperties>
</file>